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wmf" ContentType="image/x-wmf"/>
  <Override PartName="/ppt/media/image9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10.wmf" ContentType="image/x-wmf"/>
  <Override PartName="/ppt/media/image5.wmf" ContentType="image/x-wmf"/>
  <Override PartName="/ppt/media/image6.jpeg" ContentType="image/jpeg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16ACF-D466-4910-9736-978F95117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FA67E-03CD-4BA9-B864-1D357565B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4FD80-4602-4454-B702-1D968E827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F6452-BAFF-4516-9651-C5C2EB233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97EDD-5CF3-491E-B456-1F3E67402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3C54C-10C3-439D-9541-C37C3578D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E3CD7-C7A8-42D0-AAA4-E7BDC3648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71038-4EAE-40B0-A42E-325BA8328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93E29-317E-4767-8B9A-EB046DD8E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A6A3F-2C27-4B71-92AC-E5820884F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E0026-CB43-43A8-BF34-BA0AB373E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8007A-0EB4-4719-9C7A-1497F3376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B8E35-74EF-42FB-A9C8-7D39C55BA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D5A6C-7EA1-455B-9504-5E2D90D8C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77B01-229C-4088-B8BF-E471093BF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79EF9-DD01-4F7E-8262-CC8B8A4BB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BB674-B6E0-4BBE-8A84-9317CE4EC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61DA1-F139-4686-8A0F-996F21544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64125-0349-441F-B16B-0FC1497DE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22140-75BF-4E1C-83C4-4F300B0A5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25CA0-3091-4F8C-9205-1D5A49B18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2C386-6220-422E-9B6A-193DC6D7F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D3F0A-3DAA-4961-B316-D60CEDCCA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55D63-AB8F-49DA-A7E0-16C7FD6BA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47676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336666"/>
                </a:solidFill>
                <a:latin typeface="Ribbon131 B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66"/>
                </a:solidFill>
                <a:latin typeface="Ribbon131 BT"/>
              </a:rPr>
              <a:t>M. Guym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680" y="6400440"/>
            <a:ext cx="2895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</a:rPr>
              <a:t>Pleasant Grove High Scho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</a:rPr>
              <a:t>Spring 20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15EAE-4491-400E-A73E-2B14B87CD72B}" type="slidenum">
              <a:rPr b="0" lang="en-US" sz="14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336666"/>
                </a:solidFill>
                <a:latin typeface="Ribbon131 B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66"/>
                </a:solidFill>
                <a:latin typeface="Ribbon131 BT"/>
              </a:rPr>
              <a:t>M. Guym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</a:rPr>
              <a:t>Pleasant Grove High Scho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</a:rPr>
              <a:t>Spring 20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0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er Performanc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&amp; Storage Devi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133360" y="3733560"/>
            <a:ext cx="647676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uter Technolog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y 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Binary Number System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105160" y="1905120"/>
            <a:ext cx="3429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method for representing letters or numbers using only two digits, 0 and 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i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0 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y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 b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referred to as Base 2 Binary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028960" y="2133720"/>
            <a:ext cx="2419200" cy="36576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1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6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1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6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1" dur="5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6" dur="50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Memory Measurement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105160" y="1905120"/>
            <a:ext cx="342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Bit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0 or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Byt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 bi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Kilobyt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roximately 1,000 by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ctly 1,024 by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Megabyt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roximately 1 million by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ctly 1,048,576 by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Gigabyt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roximately 1 billion by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erabyt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roximately 1 trillion by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143000" y="2057400"/>
            <a:ext cx="3753000" cy="34178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3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8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3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8" dur="5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3" dur="5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8" dur="500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3" dur="500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8" dur="500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3" dur="500"/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8" dur="500"/>
                                        <p:tgtEl>
                                          <p:spTgt spid="1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3" dur="500"/>
                                        <p:tgtEl>
                                          <p:spTgt spid="1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8" dur="500"/>
                                        <p:tgtEl>
                                          <p:spTgt spid="11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3" dur="500"/>
                                        <p:tgtEl>
                                          <p:spTgt spid="11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8" dur="500"/>
                                        <p:tgtEl>
                                          <p:spTgt spid="11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torage Devic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523880" y="4876920"/>
            <a:ext cx="70106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d to keep data when the power to the computer is turned off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dium/med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cation where data is stor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3657600" y="1447920"/>
            <a:ext cx="2371680" cy="32004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5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0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5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Hard Disk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105160" y="190512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ually mounted inside the computer’s system uni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n store billions of characters of dat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ed in forms of byt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gabytes or Gigaby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2760480" cy="29955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2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7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2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7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Magnetic Storag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523520" y="190512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cording of data onto disks or tape by magnetizing particles of an oxide based surface coating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fairly permanent type of storage that can be modified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5105520" y="2633760"/>
            <a:ext cx="3429000" cy="26575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4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9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Floppy Disk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990720" y="1981080"/>
            <a:ext cx="3608280" cy="355608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105160" y="190512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ound piece of flexible Mylar plastic covered with a thin layer of magnetic oxide and sealed inside a protective cover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y be referred to as a “floppy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3½ disk capacity is 1.44 MB or 1,440,000 by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6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1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6" dur="5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Floppy Disk Option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rmatt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paring the disk for use by the compu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-protect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ting the disk so that it can not be written to by the compu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3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8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3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8" dur="5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Zip Disk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523880" y="1904760"/>
            <a:ext cx="701064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loppy disk technology manufactured by Iomeg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ailable in 100 MB and 250 MB ver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191120" y="3581280"/>
            <a:ext cx="4267080" cy="25225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0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Digital Audio Tap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thod of storing large amounts of data on tape using helical scan technology to write data at high densities across the tape at an angl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Optical Storag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ns of recording data as light and dark spots on CD or DV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ing is done through a low-power laser ligh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rk sp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ghter, non-spotted surface ar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7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2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7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2" dur="5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7" dur="5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2" dur="500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omputer Performanc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295280" y="1676520"/>
            <a:ext cx="7086600" cy="47624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D-ROM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D – Read Only Memory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so called CD-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D-Re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orage device that uses laser technology to read data that is permanently stored on compact disks, cannot be used to write data to a disk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 rot="16200000">
            <a:off x="4587120" y="2118600"/>
            <a:ext cx="4572000" cy="3078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9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4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9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4" dur="5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D-RW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4343400" y="1143000"/>
            <a:ext cx="4324320" cy="272088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523880" y="4038480"/>
            <a:ext cx="701064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D-Read Write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storage device that reads data from CD’s and also can write data to CD’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milar to a CD-ROM, but has the ability to write to C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1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6" dur="5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1" dur="5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DVD-ROM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105160" y="190512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gital Video Disks – Read Only Memory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ads data from CD’s (audio and data) and DVD’s (data or movi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nnot be used to write data to a disk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43000" y="2438280"/>
            <a:ext cx="3657600" cy="29656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8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3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8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rsons, June Jamrich, and Dan Oja.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Computer Concept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Boston: Course Technology - Thompson Learning, 2002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Boot Proces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quence of events that occurs between the time you turn on a computer and the time that it becomes ready to accept command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rpo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s a diagnostic test to make sure everything is work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ading the operating system, so the computer can carry out basic oper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6 events of the boot proces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ower u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art boot progra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ower-on self-tes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dentify peripheral dev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oad operation syste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eck configuration and customiz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ircuit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105160" y="190512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path from one component of a computer to another that data uses to trave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ircuits run betwe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M and the microprocess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M and various storage de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523880" y="2819520"/>
            <a:ext cx="3429000" cy="2286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ilicon Chip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523520" y="190512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licon is melted sand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at the circuits are embedded into to keep them togethe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5181480" y="2209680"/>
            <a:ext cx="3407040" cy="33926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Megahertz (mHz)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105160" y="190512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measurement used to describe the speed of the system clock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megahertz is equal to one million cycles (or pulses) per secon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.3 GHz means that the microprocessor’s clock operates at a speed of 1.3 BILLION cycles per secon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523880" y="2114640"/>
            <a:ext cx="3429000" cy="36957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Pentium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523520" y="190512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ame of the CPU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ntium is the 5th generation of the Intel processo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generations were cal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0-8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8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8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8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6021360" y="609480"/>
            <a:ext cx="2097000" cy="54104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" dur="500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" dur="500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RAM vs. ROM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523520" y="190512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ndom Access Memory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ability of a storage device to go directly to a specific storage location without having to search sequentially from a beginning loc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y volat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nnot hold data when the power is off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oses all data when power is los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05160" y="190512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 only memory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ves can read data from disks, but cannot store new data on th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e or more integrated circuits that contain permanent instructions that the computer uses during the boot proce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9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" dur="5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" dur="5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" dur="500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9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4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4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06T14:50:07Z</dcterms:created>
  <dc:creator>Michelle Guymon</dc:creator>
  <dc:description/>
  <dc:language>en-US</dc:language>
  <cp:lastModifiedBy>Larry Phelps</cp:lastModifiedBy>
  <dcterms:modified xsi:type="dcterms:W3CDTF">2004-09-07T16:53:36Z</dcterms:modified>
  <cp:revision>75</cp:revision>
  <dc:subject/>
  <dc:title>Computer Performance Storage Devices &amp; Size</dc:title>
</cp:coreProperties>
</file>